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EEB-54AA-4448-98F2-E3138FC6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51D-C216-4481-8EEB-F1577774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2E6-D32B-4592-9783-08E04047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889-43D8-4D3D-91FB-45C21D94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C016-0A00-4D45-A3B7-E1DCFE26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CCFB-CD6C-4199-9F1A-55B99DC5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379F-A1CE-4320-B1E2-77983312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57DA-082D-40B9-8590-BAEC95CC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0DB4-8BA1-41C4-AFB9-B36CC2B4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BD71-3FA5-4EE6-A29E-2BC2C497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0033-BC97-4B30-8334-4ABF9EA5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2B7-4F57-4D77-9589-E98467C0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503B-69B2-47AF-8AC9-AEEC1816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4D37-B451-4475-B1B4-E502736D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D363-07B6-4D88-8FB5-97D2B6E8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14BB-65C1-4186-9AAE-CCCAD783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053B-B3B7-46AC-8F19-193B2DA9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BF222-34BA-49D4-B4CD-2FE4575C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9701-C562-41C8-B13F-ECC25A4D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652B-C6C8-4721-8F7E-93A997B1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10319-7479-4B53-A656-4F5FB64E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CA3DD-4D75-404A-97F4-6057442B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5AA2-98AB-452A-8960-0638FC8F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61E6-EB69-4F50-9654-E62703E3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E0212-EB4B-4EAB-B9DB-54E111B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DC784-EF59-4364-922E-AB428E12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3F926-A8E6-45F7-A556-BDFA76E6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28DFB-2314-4B5B-89FD-8A0EB13E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4CA2-4DF2-4A94-9B2B-7A14194D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9BE48-92FB-4257-813D-C44C2A52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387D8-4D3D-4139-82C1-33270AFA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095C4-E2B3-4170-BD27-D5A7539F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BD097-DF9D-4406-9652-B65B806F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E2B-A849-49AF-8CD0-B8762BB6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F03BE-917B-4243-9B57-D370522A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BA69A-68EE-48FB-AB3C-0E85D309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00511-5F1C-4FBD-958A-075D3308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CC766-F9BB-4585-A95D-96B0CEE4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E81E1-7BCD-4D2B-850B-F2634C3E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559FB-F7B5-4F2D-BC25-90A7EF65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B2450-0AFE-47D4-A54A-B9A3F76C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99A14-245A-476C-B3E5-D34E9C2C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64F58-4EE1-4BA3-BB7E-69A169CA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D48D6-6B79-4385-822A-6706641A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848-EA43-4D0E-9EAC-4044DC62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88D31-CC88-46A1-8073-2467B3C4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2971A-9F52-45A1-8A15-EB4DAE23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102F3-FB3C-491D-95D7-C50B45B8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A7CB4-12A5-487B-AD0A-2309C717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84850-6C65-4E29-B70B-3E8CD7BD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7FE23-E195-47FA-8728-E8D335F8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2FA18-0475-44DA-B562-958C2A06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7A777-1E4C-4D3E-86F5-1BF722A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FF88B-67D0-43AB-9AA7-258D09BD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D07AB-A095-47B5-92D5-8445238B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6D7-E88B-468D-B993-0D4D2288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DA320-BB9C-44E9-9616-7675563A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B47BB-830B-468D-AEDF-ACC671EB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EFF72-C908-4762-8BB8-7693589E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34A03-F066-4370-84B4-C925EBBD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A3463-4358-4DFF-AD53-F1BC6AD0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A1DAE-4925-4527-8942-5C4C2E3D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03439-24D7-4EFC-AA45-B6D1712E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7E4EF-15FB-4213-9698-D010E2EC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692CC-A2A9-4E67-84C1-3735F5E7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43DFC-C080-4B36-A17B-C68CF76F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D23-3B39-4F7D-8400-39FC855D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496F1-257C-419A-A4A2-8DE77B2D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300A4-2383-413B-B692-B282B828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34DA2-A0C3-434E-92D8-6749EFB9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B290D-F9C1-4392-8663-CD0D0E36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8F8BC-D5F6-4B8C-8843-1237F9F0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5C57D-10AB-439E-ADF6-4F922970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D026E-1579-4BE0-A001-20983512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DBF95-C5C9-4AED-A36B-F6ED6C0F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9B386-35C7-4507-B994-45BDE177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1077C-FDC1-4785-92CF-C4E65428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942-F4FE-4A60-A2DB-F712286F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D43D7-4D8B-4BD2-B1E4-2BCDB9E2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DF281-2103-4341-B91B-A9198591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06B3E-4AD8-4633-8F73-42BAF19B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4C777-DF87-4ACB-BB02-3A8E2D33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50DC2-D53F-4B23-BBBC-D1D28B82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7B5E3-5299-4EB2-B6B4-E3F01108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E6F25-300A-4107-8082-04DE9CBB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FF592-A1F1-44E6-80EF-6126F90D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741B0-81A6-49D9-A203-7CD56991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B43EB-8AC4-4C3C-8D1A-EFE2CC5B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007-2B5A-488F-9542-6705D183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715EF-42BA-4710-9EC0-0C4B445C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14156-80CD-4F1B-97B7-12130A96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D4EA3-F394-4040-B792-1F02E690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949A3-6491-47FD-852C-9C473DE9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07BAD-BE6F-470A-BEDF-0765228C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B6436-96E6-4FB1-BA9D-7D3A3546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B9BE2-DCD8-4C09-AAF0-25B8BA63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0A12-3B85-408D-8DD0-C204B446C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6A72-C92B-486E-B4A1-4E3577B523E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7894-9434-44E7-A062-789B364B3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6AEA-3200-4B07-BA3B-2F212635EB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B0D5-C65C-4780-87C8-CE1D6FE5B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D0E1-E370-47B1-A42A-0D7209D79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633E-A601-4E22-AFDE-2AFE3616AD0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3F6A-FC9C-48D7-935B-933F562275D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479080" cy="4194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371600" y="498600"/>
            <a:ext cx="647712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"/>
          <p:cNvSpPr/>
          <p:nvPr/>
        </p:nvSpPr>
        <p:spPr>
          <a:xfrm>
            <a:off x="1447920" y="102888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kill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. Accomplished educational leaders continuously cultivate their understanding of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leadership and the change process to meet high levels of performance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Leadership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. Accomplished educational leaders have a clear vision and inspire and engag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akeholders in developing and realizing the mission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Vision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. Accomplished educational leaders manage and leverage systems and process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o achieve desired results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Management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1371600" y="144468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4. Accomplished educational leaders act with a sense of urgency to foster a cohesiv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ulture of learning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Culture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5. Accomplished educational leaders are committed to student and adult learner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nd to their development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Learners and Learning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6. Accomplished educational leaders drive, facilitate and monitor the teaching and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learning process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Instruction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914400" y="990720"/>
            <a:ext cx="7010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Disposition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7. Accomplished educational leaders model professional, ethical behavior and expec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t from others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Ethic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8. Accomplished educational leaders ensure equitable learning opportunities and hig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xpectations for all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Equity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9. Accomplished educational leaders advocate on behalf of their schools, communiti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nd profession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Advocacy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Copyright © 2009 NBPTS. All Rights Reserved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9:58:51Z</dcterms:created>
  <dc:creator>Owner</dc:creator>
  <dc:description/>
  <dc:language>en-US</dc:language>
  <cp:lastModifiedBy>Owner</cp:lastModifiedBy>
  <dcterms:modified xsi:type="dcterms:W3CDTF">2010-10-06T20:03:33Z</dcterms:modified>
  <cp:revision>1</cp:revision>
  <dc:subject/>
  <dc:title>National Board Core Propositions for Accomplished Educational Leaders™ </dc:title>
</cp:coreProperties>
</file>